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C48-3DC9-49DF-8DD4-8B0F5C5B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7AD-019F-4699-8C8F-9C3196B3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3FA-72F9-46ED-ADF0-8731EA3F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17C-075D-4327-8A57-2AD47D45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BE1-FEA9-4502-BE46-0FDCAAF9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CDC-8A36-4156-9E94-365881B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1EA-F235-4F51-9723-54EB0AE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E14-1A6D-403A-9F8F-17D137C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C54-403A-454D-86FD-A182F990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201-BE54-4134-AF19-1AA77788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F88-8B03-4910-9209-2277CD57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5DA-8D47-409C-B12E-92B1751F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8B83-BDD6-4561-A6B7-B584FE978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fic.org/publications/brochures/upload/sucralosebrochure.pdf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ll-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had a hard time picking just one fl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having a party you can know which flavor of Jell-O people would en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Causes of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sible cause of error was I did not have all of the flavors of Jell-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do this experiment again but with all flavors of jell-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31: 45minuts, September 1: 45minuts, September 2: 45minuts September 3: 45minuts, September 4: 45minuts, September 14: 45minuts, September 15, 45minuts, September 16: 45minuts, September 28: 45minuts, September 29: 45minuts, October 12: 45minuts October 13: 45minutes, November 6: 7minuts, November 7: 20minuts, February 9 45minu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fic.org/publications/brochures/upload/sucralosebrochu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Acesulfame_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Aspart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Sugar_substitu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Jell-O flavor do people pre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question is which Jell-O  flavor people like th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ll-O is a dessert made out of Gelatin. Gelatin used to be made out of parts of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substitutes are made from things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Artificial</a:t>
            </a:r>
            <a:r>
              <a:rPr b="1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weeteners are chemical m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 most popular flavor will be Strawbe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five Jell-O fla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all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them to circle their favorite fl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for all te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people voted for strawb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 voted for L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 voted for Gr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eople voted for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people voted for Ch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correct. Most people voted for Strawb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0-02-11T16:06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